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E29-0E3C-4556-AE86-F3D9AD53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5CA-36FD-403F-A70D-79914E48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A35-5A97-4974-B075-623A7D8B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F2D-CC2F-40C4-AAFA-9632A8EA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8229-4121-4920-A481-0A8E3C59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A7C-2B55-4FED-A34F-4AFF9D5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2AC8-ACA2-46B7-93E6-C9ECE47B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18ED-18F5-4E7A-8514-EF7F5ADE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9398-24F5-4402-99EB-AA13CB2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2470-5BFA-40C0-A2F6-9273BE2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586B-235D-42D3-B2A6-6DBEF9E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507-EB41-4CE1-A0D3-6ADE7A6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26EE-07A6-412B-B282-C1B3BC71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C0E-4170-4307-A630-0C125A5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0DE-E1E4-499E-BD5B-A237A018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B47-730C-4028-87B8-96BF2B3D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140000"/>
            <a:ext cx="248868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9669-0CAC-47F5-84A5-D9FA59D5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CA8-3BFE-474A-AF69-5F04E355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53F-A6D0-46A4-A2B7-86D5B23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256-9FD5-4D6F-AD60-B2EA370E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2AB-9CA7-4B42-A492-156B345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4BB-4FB4-435C-BD59-019A3B7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14000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D83-479F-4010-932D-EED840C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140000"/>
            <a:ext cx="77295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43E-2AA4-456B-92DB-DA7DF0E6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B84-A953-44D5-AAED-BF8721CBFE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2904-F2CD-421F-81D3-10AC347B57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H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Editing 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s:  Intro’s and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w/ es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-No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nce the beginning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acism has been a proble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ence is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ing sentence spa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is morally wrong.  People who are racist are bad.  I know some racist people and they are bad.  Most bad people are racist and they end up in j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tes:  Conc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/26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: 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ate 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Main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96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ho the in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the way you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ing the read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hem feel like they need to do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ing to the futur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description of what will happ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e a ques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it is a thought provoking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e a course of action, a solution to an issue, or questions for further stu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"So What?"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your readers that your paper was meaningful and use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thesize, don't summari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your final thoughts, not summ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irect your rea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all this connect to readers and their responsibiliti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 No-No’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verused phrases:  "in conclusion," "in summary," or "in closing."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ating the thesis for the very first time in the conclusio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New main idea or quot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8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king emotional appe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py HW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tomorr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outline due (revised Thesis + Bod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 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parts to the the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in ideas are listed in the bod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main ideas match the thesis? 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visions does the body ne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Notes: Introductions &amp; Conclusion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/25/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tline: 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roduction Strategies (SSQQ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ought provok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yes/no ques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details, dialogue, s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ed Data,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ful QU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ip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MILES and METAPH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 to the senses with SENSORY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IFY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Introduc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trategy is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ckground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’s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ulary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1:45:56Z</dcterms:created>
  <dc:creator>Vicky Tucker</dc:creator>
  <dc:description/>
  <dc:language>en-US</dc:language>
  <cp:lastModifiedBy>Tucker</cp:lastModifiedBy>
  <dcterms:modified xsi:type="dcterms:W3CDTF">2010-05-25T22:03:06Z</dcterms:modified>
  <cp:revision>6</cp:revision>
  <dc:subject/>
  <dc:title>10th Grade Writing</dc:title>
</cp:coreProperties>
</file>